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5CE-9229-4FDD-996C-3972FF81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an Kalweit and Kathy S. White Œ2001 Kathy S. White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FA0-FBAB-4E78-B211-5413D2B4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CE3-741F-4BA8-8F35-CCBEED8B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FA7-A987-4A40-A318-D3888BFA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1F9-9A5A-4C93-A6A1-9B045A51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0CE-1210-4B69-9872-6499A757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2FC-2E03-4D44-A200-2E9A9F08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5D0-50C7-4727-8A0A-9E2B2A5B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D2B-1B5B-47AE-90CE-FA1A8A9C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77C-1032-4799-BA11-DC3D57A0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308-ED83-4030-A7BC-F03A0A8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B7E-4131-44CD-8703-2C039F3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74C-DF20-4A68-B9D5-499FA61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6966-9646-4111-85A0-3EB7CCC6F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green%20tree" TargetMode="External"/><Relationship Id="rId3" Type="http://schemas.microsoft.com/office/2007/relationships/media" Target="file:///tmp/home/.config/libreoffice/4/user/gallery/green%20tre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52880" y="5257800"/>
            <a:ext cx="33530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Joan Kalweit and Kathy S.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litt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62160" cy="4602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pink pres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2198520"/>
            <a:ext cx="2210040" cy="1941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2666880" cy="2342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litt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62160" cy="4602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pretty st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940200" cy="3502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en tree green tree, pretty Christmas Tre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14800" y="3276720"/>
            <a:ext cx="968400" cy="82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114800" y="3809880"/>
            <a:ext cx="179064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248520" y="4572000"/>
            <a:ext cx="1676160" cy="147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362320" y="4724280"/>
            <a:ext cx="1676160" cy="1473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43000" y="1371600"/>
            <a:ext cx="6705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happy litt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62160" cy="460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l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41936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happy litt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62160" cy="4602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red and white candy ca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4038480" cy="3871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ppy litt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62160" cy="4602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purple snowfla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870520" cy="3389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96080" y="1905120"/>
            <a:ext cx="5335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</a:t>
            </a: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ppy litt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62160" cy="4602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pretty l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48640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2:31:04Z</dcterms:created>
  <dc:creator>School District of Janesville</dc:creator>
  <dc:description/>
  <dc:language>en-US</dc:language>
  <cp:lastModifiedBy> </cp:lastModifiedBy>
  <dcterms:modified xsi:type="dcterms:W3CDTF">2005-01-27T19:33:48Z</dcterms:modified>
  <cp:revision>8</cp:revision>
  <dc:subject/>
  <dc:title>Green Tree Green Tree</dc:title>
</cp:coreProperties>
</file>